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529A-9CEE-4766-9F68-04A3ECA0C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BBD1-5ACF-41F9-AAAF-6702A347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3650-AE85-4A12-B486-279A92EA3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2644-A3B4-485E-871C-227AA14F2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ACDE-B3AA-4D4E-AAA8-6E75B3C2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4CC4-F22B-4782-B704-B6330A8F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2689-3452-48A7-9C76-BC3996EC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AA97-0B6A-4DE3-81AD-06B76E73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B9CD-5BFD-4433-974E-EEA91A19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8248-15E9-4FDB-BEFF-96E1D899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8337-E6B9-45F0-B8BA-BA1F1A22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94EE-9C2A-4EA6-8F5C-B918A7E9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FE02-7F69-4D50-A191-F3DC378C4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ENOIR COUNTY PUBLIC SCHOOL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NC WISE TAMS 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3880" y="3124080"/>
            <a:ext cx="1792440" cy="1784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200400" y="41148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ommitment to excellence for all child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33889" t="27558" r="25001" b="28889"/>
          <a:stretch/>
        </p:blipFill>
        <p:spPr>
          <a:xfrm>
            <a:off x="0" y="228600"/>
            <a:ext cx="9144000" cy="60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33889" t="33336" r="23890" b="23111"/>
          <a:stretch/>
        </p:blipFill>
        <p:spPr>
          <a:xfrm>
            <a:off x="152280" y="380880"/>
            <a:ext cx="883944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33889" t="29334" r="25001" b="27113"/>
          <a:stretch/>
        </p:blipFill>
        <p:spPr>
          <a:xfrm>
            <a:off x="380880" y="380880"/>
            <a:ext cx="8305920" cy="54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35002" t="29334" r="25557" b="25333"/>
          <a:stretch/>
        </p:blipFill>
        <p:spPr>
          <a:xfrm>
            <a:off x="228600" y="228600"/>
            <a:ext cx="8763120" cy="629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41113" t="35557" r="31668" b="27999"/>
          <a:stretch/>
        </p:blipFill>
        <p:spPr>
          <a:xfrm>
            <a:off x="1066680" y="457200"/>
            <a:ext cx="70866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34445" t="32891" r="26111" b="24447"/>
          <a:stretch/>
        </p:blipFill>
        <p:spPr>
          <a:xfrm>
            <a:off x="0" y="228600"/>
            <a:ext cx="914400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35556" t="39114" r="25001" b="20890"/>
          <a:stretch/>
        </p:blipFill>
        <p:spPr>
          <a:xfrm>
            <a:off x="0" y="304920"/>
            <a:ext cx="9144000" cy="57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33889" t="31111" r="23890" b="20890"/>
          <a:stretch/>
        </p:blipFill>
        <p:spPr>
          <a:xfrm>
            <a:off x="380880" y="304920"/>
            <a:ext cx="8382240" cy="59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36669" t="41780" r="27221" b="20000"/>
          <a:stretch/>
        </p:blipFill>
        <p:spPr>
          <a:xfrm>
            <a:off x="304920" y="228600"/>
            <a:ext cx="845820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26111" t="28444" r="22780" b="20890"/>
          <a:stretch/>
        </p:blipFill>
        <p:spPr>
          <a:xfrm>
            <a:off x="0" y="304920"/>
            <a:ext cx="9144000" cy="56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772400" cy="5791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362320" y="1447920"/>
            <a:ext cx="289548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 rot="936000">
            <a:off x="2971800" y="2057040"/>
            <a:ext cx="838080" cy="457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891080" y="5446800"/>
            <a:ext cx="278388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is is like the Unive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2971800"/>
            <a:ext cx="27432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CWISE is like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20602800">
            <a:off x="3573720" y="1592280"/>
            <a:ext cx="2477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MS is like the U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25001" t="27558" r="14445" b="20000"/>
          <a:stretch/>
        </p:blipFill>
        <p:spPr>
          <a:xfrm>
            <a:off x="0" y="914400"/>
            <a:ext cx="914400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21876" b="24128"/>
          <a:stretch/>
        </p:blipFill>
        <p:spPr>
          <a:xfrm>
            <a:off x="0" y="0"/>
            <a:ext cx="9144000" cy="64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35556" t="32891" r="25557" b="20890"/>
          <a:stretch/>
        </p:blipFill>
        <p:spPr>
          <a:xfrm>
            <a:off x="685800" y="304920"/>
            <a:ext cx="7924680" cy="58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25557" t="27558" r="26111" b="20890"/>
          <a:stretch/>
        </p:blipFill>
        <p:spPr>
          <a:xfrm>
            <a:off x="152280" y="152280"/>
            <a:ext cx="86868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1894" t="10661" r="24220" b="45834"/>
          <a:stretch/>
        </p:blipFill>
        <p:spPr>
          <a:xfrm>
            <a:off x="0" y="1143000"/>
            <a:ext cx="891540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20557" t="7999" r="12222" b="16443"/>
          <a:stretch/>
        </p:blipFill>
        <p:spPr>
          <a:xfrm>
            <a:off x="-76320" y="152280"/>
            <a:ext cx="92203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33332" t="27558" r="24444" b="24447"/>
          <a:stretch/>
        </p:blipFill>
        <p:spPr>
          <a:xfrm>
            <a:off x="0" y="360360"/>
            <a:ext cx="914400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2T21:40:10Z</dcterms:created>
  <dc:creator>Pat</dc:creator>
  <dc:description/>
  <dc:language>en-US</dc:language>
  <cp:lastModifiedBy>Administrator</cp:lastModifiedBy>
  <dcterms:modified xsi:type="dcterms:W3CDTF">2008-01-16T17:18:57Z</dcterms:modified>
  <cp:revision>12</cp:revision>
  <dc:subject/>
  <dc:title>Slide 1</dc:title>
</cp:coreProperties>
</file>