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583-4754-41D8-A8E6-A0DEF562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49E-DC91-4CBB-B6EF-B9C9F5ED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0B0-21E2-4D83-878E-60DDBA3E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721-FC1D-4FD6-BC95-7A38090C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D20-1B73-4016-A230-2E8156B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657-62CA-4EE7-B98F-1F811A0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9F1-5144-4BF3-91B9-6ED4FF96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612-C800-4ABC-A84F-345D1BF3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EA6-DED5-4B0D-A68E-1A2C0B1A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DF9-2F10-404E-A4E1-E91B36FE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29F-CA46-495B-AF2A-6D723D24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3E7-AEB3-4A28-82B5-E360B65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6ED-F360-4739-A49B-8F400626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NOIR COUNTY PUBLIC SCHOO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C WISE TAM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1792440" cy="178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4114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mitment to excellence for all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3889" t="27558" r="25001" b="28889"/>
          <a:stretch/>
        </p:blipFill>
        <p:spPr>
          <a:xfrm>
            <a:off x="0" y="22860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3889" t="33336" r="23890" b="23111"/>
          <a:stretch/>
        </p:blipFill>
        <p:spPr>
          <a:xfrm>
            <a:off x="152280" y="380880"/>
            <a:ext cx="883944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889" t="29334" r="25001" b="27113"/>
          <a:stretch/>
        </p:blipFill>
        <p:spPr>
          <a:xfrm>
            <a:off x="380880" y="380880"/>
            <a:ext cx="83059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5002" t="29334" r="25557" b="25333"/>
          <a:stretch/>
        </p:blipFill>
        <p:spPr>
          <a:xfrm>
            <a:off x="228600" y="228600"/>
            <a:ext cx="876312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1113" t="35557" r="31668" b="27999"/>
          <a:stretch/>
        </p:blipFill>
        <p:spPr>
          <a:xfrm>
            <a:off x="1066680" y="457200"/>
            <a:ext cx="7086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4445" t="32891" r="26111" b="24447"/>
          <a:stretch/>
        </p:blipFill>
        <p:spPr>
          <a:xfrm>
            <a:off x="0" y="22860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5556" t="39114" r="25001" b="20890"/>
          <a:stretch/>
        </p:blipFill>
        <p:spPr>
          <a:xfrm>
            <a:off x="0" y="30492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33889" t="31111" r="23890" b="20890"/>
          <a:stretch/>
        </p:blipFill>
        <p:spPr>
          <a:xfrm>
            <a:off x="380880" y="304920"/>
            <a:ext cx="83822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36669" t="41780" r="27221" b="20000"/>
          <a:stretch/>
        </p:blipFill>
        <p:spPr>
          <a:xfrm>
            <a:off x="304920" y="228600"/>
            <a:ext cx="8458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6111" t="28444" r="22780" b="20890"/>
          <a:stretch/>
        </p:blipFill>
        <p:spPr>
          <a:xfrm>
            <a:off x="0" y="304920"/>
            <a:ext cx="914400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936000">
            <a:off x="2971800" y="2057040"/>
            <a:ext cx="83808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91080" y="5446800"/>
            <a:ext cx="278388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is is like the 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2743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WISE is like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602800">
            <a:off x="3573720" y="1592280"/>
            <a:ext cx="247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S is like the U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001" t="27558" r="14445" b="20000"/>
          <a:stretch/>
        </p:blipFill>
        <p:spPr>
          <a:xfrm>
            <a:off x="0" y="914400"/>
            <a:ext cx="91440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21876" b="24128"/>
          <a:stretch/>
        </p:blipFill>
        <p:spPr>
          <a:xfrm>
            <a:off x="0" y="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5556" t="32891" r="25557" b="20890"/>
          <a:stretch/>
        </p:blipFill>
        <p:spPr>
          <a:xfrm>
            <a:off x="685800" y="304920"/>
            <a:ext cx="79246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5557" t="27558" r="26111" b="20890"/>
          <a:stretch/>
        </p:blipFill>
        <p:spPr>
          <a:xfrm>
            <a:off x="152280" y="1522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894" t="10661" r="24220" b="45834"/>
          <a:stretch/>
        </p:blipFill>
        <p:spPr>
          <a:xfrm>
            <a:off x="0" y="1143000"/>
            <a:ext cx="8915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0557" t="7999" r="12222" b="16443"/>
          <a:stretch/>
        </p:blipFill>
        <p:spPr>
          <a:xfrm>
            <a:off x="-76320" y="152280"/>
            <a:ext cx="92203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3332" t="27558" r="24444" b="24447"/>
          <a:stretch/>
        </p:blipFill>
        <p:spPr>
          <a:xfrm>
            <a:off x="0" y="36036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21:40:10Z</dcterms:created>
  <dc:creator>Pat</dc:creator>
  <dc:description/>
  <dc:language>en-US</dc:language>
  <cp:lastModifiedBy>Administrator</cp:lastModifiedBy>
  <dcterms:modified xsi:type="dcterms:W3CDTF">2008-01-16T17:18:57Z</dcterms:modified>
  <cp:revision>12</cp:revision>
  <dc:subject/>
  <dc:title>Slide 1</dc:title>
</cp:coreProperties>
</file>