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7E8-F24C-49EF-9080-E694A7F6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FC9-3E35-44FB-BEA0-EE56E4F9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DA6-046A-498B-826A-FDA81D74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1DD-711C-4C45-B8E2-DAA4FB8D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985-F57D-4F48-9A5F-C507ABA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9D8-28D9-401D-8FF3-FDFAAF8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A6C-23F0-4FE5-AA76-A2018F7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5C1-D587-40F7-878F-12272C2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A88-5237-48CF-8CA6-EE910DA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BF0-9350-45EF-9003-E36B3B5C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042-C2B8-4881-8675-2051A66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14E-282D-48B1-B911-7FAC5F9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C5D-1EB9-4B2B-BA4A-0B04FFA1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NOIR COUNTY PUBLIC SCHOO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C WISE TAM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1792440" cy="178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4114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itment to excellence for all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3889" t="27558" r="25001" b="28889"/>
          <a:stretch/>
        </p:blipFill>
        <p:spPr>
          <a:xfrm>
            <a:off x="0" y="22860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3889" t="33336" r="23890" b="23111"/>
          <a:stretch/>
        </p:blipFill>
        <p:spPr>
          <a:xfrm>
            <a:off x="152280" y="380880"/>
            <a:ext cx="88394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889" t="29334" r="25001" b="27113"/>
          <a:stretch/>
        </p:blipFill>
        <p:spPr>
          <a:xfrm>
            <a:off x="380880" y="380880"/>
            <a:ext cx="83059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002" t="29334" r="25557" b="25333"/>
          <a:stretch/>
        </p:blipFill>
        <p:spPr>
          <a:xfrm>
            <a:off x="228600" y="228600"/>
            <a:ext cx="8763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1113" t="35557" r="31668" b="27999"/>
          <a:stretch/>
        </p:blipFill>
        <p:spPr>
          <a:xfrm>
            <a:off x="1066680" y="457200"/>
            <a:ext cx="7086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4445" t="32891" r="26111" b="24447"/>
          <a:stretch/>
        </p:blipFill>
        <p:spPr>
          <a:xfrm>
            <a:off x="0" y="22860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5556" t="39114" r="25001" b="20890"/>
          <a:stretch/>
        </p:blipFill>
        <p:spPr>
          <a:xfrm>
            <a:off x="0" y="30492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380880" y="304920"/>
            <a:ext cx="83822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36669" t="41780" r="27221" b="20000"/>
          <a:stretch/>
        </p:blipFill>
        <p:spPr>
          <a:xfrm>
            <a:off x="304920" y="22860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6111" t="28444" r="22780" b="20890"/>
          <a:stretch/>
        </p:blipFill>
        <p:spPr>
          <a:xfrm>
            <a:off x="0" y="304920"/>
            <a:ext cx="9144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936000">
            <a:off x="2971800" y="205704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91080" y="5446800"/>
            <a:ext cx="27838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is is like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2743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WISE is like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602800">
            <a:off x="3573720" y="1592280"/>
            <a:ext cx="247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S is like the 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1" t="27558" r="14445" b="20000"/>
          <a:stretch/>
        </p:blipFill>
        <p:spPr>
          <a:xfrm>
            <a:off x="0" y="914400"/>
            <a:ext cx="9144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1876" b="24128"/>
          <a:stretch/>
        </p:blipFill>
        <p:spPr>
          <a:xfrm>
            <a:off x="0" y="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5556" t="32891" r="25557" b="20890"/>
          <a:stretch/>
        </p:blipFill>
        <p:spPr>
          <a:xfrm>
            <a:off x="685800" y="304920"/>
            <a:ext cx="79246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5557" t="27558" r="26111" b="20890"/>
          <a:stretch/>
        </p:blipFill>
        <p:spPr>
          <a:xfrm>
            <a:off x="152280" y="1522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894" t="10661" r="24220" b="45834"/>
          <a:stretch/>
        </p:blipFill>
        <p:spPr>
          <a:xfrm>
            <a:off x="0" y="1143000"/>
            <a:ext cx="8915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0557" t="7999" r="12222" b="16443"/>
          <a:stretch/>
        </p:blipFill>
        <p:spPr>
          <a:xfrm>
            <a:off x="-76320" y="1522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2" t="27558" r="24444" b="24447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21:40:10Z</dcterms:created>
  <dc:creator>Pat</dc:creator>
  <dc:description/>
  <dc:language>en-US</dc:language>
  <cp:lastModifiedBy>Administrator</cp:lastModifiedBy>
  <dcterms:modified xsi:type="dcterms:W3CDTF">2008-01-16T17:18:57Z</dcterms:modified>
  <cp:revision>12</cp:revision>
  <dc:subject/>
  <dc:title>Slide 1</dc:title>
</cp:coreProperties>
</file>