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6.png" ContentType="image/png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png" ContentType="image/png"/>
  <Override PartName="/ppt/media/image13.wmf" ContentType="image/x-wmf"/>
  <Override PartName="/ppt/media/image10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9E87B-6C46-451F-B844-DA8C3EFB1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1C144-25F9-48F2-B576-3EDA479C9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3098F-DB74-4A81-ADF3-090A00A89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49904-2589-483D-837C-FD288E4A6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467FF-500B-4605-97CC-C9F07BF4D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68505-45BD-4AC6-8426-814FBC0ED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F805C-43DD-4A49-88C0-C1F02386A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9F08B-A1E6-4DED-A8D1-0FA05FC5D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287C8-67CB-4124-9F3B-39AA6DA8F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60ED8-9833-4749-871C-60D4E3259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8A705-BF2B-4D71-A47A-91D83061C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B18C0-DFCE-4D77-B90E-397BA7E0A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499D0-3FBF-4D5D-83AE-B22A708776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295280" y="685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enoir County Public Schoo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rain-The-Trainer for T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133720" y="3657600"/>
            <a:ext cx="4981320" cy="11145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3430800" y="5867280"/>
            <a:ext cx="190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ring 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9040" y="5181480"/>
            <a:ext cx="363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version Prepa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228600"/>
            <a:ext cx="8686800" cy="64008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658680" y="2819520"/>
            <a:ext cx="126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ay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458200" y="6095880"/>
            <a:ext cx="3808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Review 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ew slides and respond to tell what each screen is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04920" y="304920"/>
            <a:ext cx="8458200" cy="6248160"/>
          </a:xfrm>
          <a:prstGeom prst="rect">
            <a:avLst/>
          </a:prstGeom>
          <a:noFill/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2819520" y="2362320"/>
            <a:ext cx="3713040" cy="39495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8305920" y="6095880"/>
            <a:ext cx="4572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Your Resources and Supp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 Shee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C Wise Teacher’s Guide (TA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st of Web Si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M Trainers for school site and distri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TAM Trainer has access to one training log 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04920" y="380880"/>
            <a:ext cx="8534160" cy="5943600"/>
          </a:xfrm>
          <a:prstGeom prst="rect">
            <a:avLst/>
          </a:prstGeom>
          <a:noFill/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534520" y="5943600"/>
            <a:ext cx="30456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Reminder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gister on the SEA Sys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king L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920" y="304920"/>
            <a:ext cx="8534160" cy="58672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8458200" y="5638680"/>
            <a:ext cx="3049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Closing and 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057400" y="1599840"/>
            <a:ext cx="495288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Today we addressed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80880" y="304920"/>
            <a:ext cx="8458200" cy="59436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209680" y="4343400"/>
            <a:ext cx="4981680" cy="111456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8534520" y="5715000"/>
            <a:ext cx="30456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75760" y="2743200"/>
            <a:ext cx="26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de book and Re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520" y="914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Thank You 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2057400" y="4724280"/>
            <a:ext cx="4981680" cy="11145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457200" y="380880"/>
            <a:ext cx="8229600" cy="6019920"/>
          </a:xfrm>
          <a:prstGeom prst="rect">
            <a:avLst/>
          </a:prstGeom>
          <a:noFill/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6477120" y="762120"/>
            <a:ext cx="1833480" cy="14713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3048120" y="2362320"/>
            <a:ext cx="2286000" cy="19429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8381880" y="5867280"/>
            <a:ext cx="3049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761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Welcome to Day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47920" y="2514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king 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iew from Day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380880"/>
            <a:ext cx="8305920" cy="59436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5334120" y="2209680"/>
            <a:ext cx="3038400" cy="34498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1600200" y="3886200"/>
            <a:ext cx="2666880" cy="20224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8381880" y="5867280"/>
            <a:ext cx="38124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Agenda / Outco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6960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day you will gain knowledge ab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e with Grade Bo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iew Power 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iew Secu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ources and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80880" y="304920"/>
            <a:ext cx="8305920" cy="59436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5334120" y="3352680"/>
            <a:ext cx="2895480" cy="27432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380880" y="5715000"/>
            <a:ext cx="3049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Logging In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29000" y="4800600"/>
            <a:ext cx="2437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T_###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cwise20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a12t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28600" y="228600"/>
            <a:ext cx="8610480" cy="64008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600200" y="1219320"/>
            <a:ext cx="6019920" cy="35812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8381880" y="6172200"/>
            <a:ext cx="38124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TAM Main Start Scre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1295280"/>
            <a:ext cx="8915400" cy="533556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228600" y="228600"/>
            <a:ext cx="8610480" cy="64008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534520" y="6095880"/>
            <a:ext cx="2286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Adding an Assess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rcRect l="18753" t="32505" r="18753" b="12502"/>
          <a:stretch/>
        </p:blipFill>
        <p:spPr>
          <a:xfrm>
            <a:off x="-76320" y="914400"/>
            <a:ext cx="8839440" cy="567864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588040" y="6361200"/>
            <a:ext cx="365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ges 104, 105, 106 TAM S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8686800" y="6324480"/>
            <a:ext cx="45720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tering Marks (Grad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21876" t="30592" r="15626" b="12268"/>
          <a:stretch/>
        </p:blipFill>
        <p:spPr>
          <a:xfrm>
            <a:off x="380880" y="685800"/>
            <a:ext cx="8382240" cy="579132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308160" y="6415200"/>
            <a:ext cx="384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ges 111, 112, 113 – TAM S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033880" y="6415200"/>
            <a:ext cx="409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de Book Reference Card - hand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763120" y="0"/>
            <a:ext cx="3808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sting Marks (grades) to the Report Car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rcRect l="23438" t="36665" r="17188" b="9180"/>
          <a:stretch/>
        </p:blipFill>
        <p:spPr>
          <a:xfrm>
            <a:off x="76320" y="1295280"/>
            <a:ext cx="8991360" cy="48769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232200" y="6338880"/>
            <a:ext cx="351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ges 120 – 126 in TAM S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32480" y="6140520"/>
            <a:ext cx="420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ference Sheets – Posting Marks to the Report Card Gr. 3 – 5 and 6 -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8686800" y="0"/>
            <a:ext cx="45720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Things to Rememb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5486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 from LEA choi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mit 2 per subje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anging Gra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n be done manually for late grades or grades below district failing mark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ep a written record of all changes and reas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 Entry 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st be checked or grades will not show on report c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ou must wait for the message “Marks were successfully posted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e D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rades must be posted on or before the due d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eep up-to-dat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st Practice is to enter grades at least week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st be entered at least every two wee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 Sharing of passwor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ways lock or exit the program when you are not sitting at your compu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6095880" y="2286000"/>
            <a:ext cx="2590920" cy="304812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304920" y="304920"/>
            <a:ext cx="8610480" cy="6095880"/>
          </a:xfrm>
          <a:prstGeom prst="rect">
            <a:avLst/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534520" y="380880"/>
            <a:ext cx="3808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3:58:02Z</dcterms:created>
  <dc:creator>LCPS</dc:creator>
  <dc:description/>
  <dc:language>en-US</dc:language>
  <cp:lastModifiedBy>LCPS</cp:lastModifiedBy>
  <dcterms:modified xsi:type="dcterms:W3CDTF">2008-01-14T15:32:33Z</dcterms:modified>
  <cp:revision>7</cp:revision>
  <dc:subject/>
  <dc:title>Slide 1</dc:title>
</cp:coreProperties>
</file>