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1A1-71A3-4D63-885E-705D3AAF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F98-BF63-4A9D-812B-87C1D0C3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083-ABCC-4F6D-A78C-1DCBDD0B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FBD-A815-4FC5-B0E2-B819DCDE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CC2-A8D0-44C0-896A-10819C32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0E2-1A4C-436E-AC60-D7B7D45F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01C-3920-4005-86C5-E192410F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480-3F11-448F-84C0-73F4A0D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5B1-95C4-41B8-BB0C-F0CC574F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16F-504D-4C12-9EA1-E9C830BC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1C4-9AC4-4635-A8AF-2EE1E1B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CD8-1C9A-4597-B774-EDF999BB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D27B-8F1E-412F-A9AF-F92938036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noir County Public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-The-Trainer for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981320" cy="1114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30800" y="5867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9040" y="518148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8680" y="28195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6095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slides and respond to tell what each screen 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04920"/>
            <a:ext cx="8458200" cy="62481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713040" cy="394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Your Resources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She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 Wise Teacher’s Guide (T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Web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 Trainers for school site and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M Trainer has access to one training lo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34520" y="5943600"/>
            <a:ext cx="304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mi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on the SE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04920"/>
            <a:ext cx="8534160" cy="586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56386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losing and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day we address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04920"/>
            <a:ext cx="845820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09680" y="434340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534520" y="57150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5760" y="27432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4981680" cy="111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77120" y="762120"/>
            <a:ext cx="1833480" cy="147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2286000" cy="194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1880" y="5867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lcome to Da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ing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from Da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38400" cy="344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2666880" cy="202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1880" y="58672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da /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 you will gain knowledg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ith Grad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71500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gging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800600"/>
            <a:ext cx="243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T_##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wise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12t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1880" y="61722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M Main Start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335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34520" y="6095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ng an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8753" t="32505" r="18753" b="12502"/>
          <a:stretch/>
        </p:blipFill>
        <p:spPr>
          <a:xfrm>
            <a:off x="-76320" y="914400"/>
            <a:ext cx="8839440" cy="567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88040" y="6361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04, 105, 106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ing Marks (Gra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1876" t="30592" r="15626" b="12268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8160" y="641520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11, 112, 113 –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3880" y="641520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Book Reference Card -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63120" y="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ing Marks (grades) to the Report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3438" t="36665" r="17188" b="9180"/>
          <a:stretch/>
        </p:blipFill>
        <p:spPr>
          <a:xfrm>
            <a:off x="76320" y="1295280"/>
            <a:ext cx="899136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2200" y="63388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120 – 126 in TAM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480" y="61405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heets – Posting Marks to the Report Card Gr. 3 – 5 and 6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from LEA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 2 per su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done manually for late grades or grades below district failing ma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 a written record of all changes and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Entry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checked or grades will not show on report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wait for the message “Marks were successfully post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s must be posted on or before the du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up-to-d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Practice is to enter grades at least week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entered at least every two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haring of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lock or exit the program when you are not sitting at your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304920"/>
            <a:ext cx="8610480" cy="6095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34520" y="3808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3:58:02Z</dcterms:created>
  <dc:creator>LCPS</dc:creator>
  <dc:description/>
  <dc:language>en-US</dc:language>
  <cp:lastModifiedBy>LCPS</cp:lastModifiedBy>
  <dcterms:modified xsi:type="dcterms:W3CDTF">2008-01-14T15:32:33Z</dcterms:modified>
  <cp:revision>7</cp:revision>
  <dc:subject/>
  <dc:title>Slide 1</dc:title>
</cp:coreProperties>
</file>