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EB30-5D86-4576-AC22-E9B128A7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AEC-EF2C-4598-9A55-EF12324C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407-DDED-4EF1-87A4-0B966ACE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710-5E13-47BE-A26E-51B907AA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04B-2A19-46D5-A964-1885C1D7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832-C43F-4567-B6FB-59B595A1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A50E-03B0-44FF-BFBD-90C4B757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A5E-61A6-4FE9-B297-55A2D17B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F7F-BDEB-4E6F-8732-4333CAC8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21D-24D9-4737-90D5-A5B12B34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FFB-D543-4429-A81B-C16082F8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953-B240-491B-9BE1-C818ED36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C3BA-80DD-4659-8CA5-F6C6751DB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oir County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in-The-Trainer for T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981320" cy="111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30800" y="5867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9040" y="518148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8680" y="28195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458200" y="60958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view 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slides and respond to tell what each screen i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304920"/>
            <a:ext cx="8458200" cy="62481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713040" cy="3949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305920" y="60958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Your Resources and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 She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Wise Teacher’s Guide (T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Web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 Trainers for school site and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AM Trainer has access to one training lo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534520" y="5943600"/>
            <a:ext cx="3045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min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on the SE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56386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and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day we address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981680" cy="1114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534520" y="57150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5760" y="274320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book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4724280"/>
            <a:ext cx="4981680" cy="1114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77120" y="762120"/>
            <a:ext cx="1833480" cy="1471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048120" y="2362320"/>
            <a:ext cx="2286000" cy="1942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1880" y="5867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lcome to Da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rom Da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038400" cy="3449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00200" y="3886200"/>
            <a:ext cx="2666880" cy="202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1880" y="58672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da /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 you will gain knowledg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ith Grad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2895480" cy="2743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571500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gging 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4800600"/>
            <a:ext cx="24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1992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81880" y="617220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M Main Start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335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534520" y="6095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ding an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8753" t="32505" r="18753" b="12502"/>
          <a:stretch/>
        </p:blipFill>
        <p:spPr>
          <a:xfrm>
            <a:off x="-76320" y="914400"/>
            <a:ext cx="8839440" cy="5678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88040" y="636120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 104, 105, 106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ing Marks (Grad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1876" t="30592" r="15626" b="12268"/>
          <a:stretch/>
        </p:blipFill>
        <p:spPr>
          <a:xfrm>
            <a:off x="380880" y="685800"/>
            <a:ext cx="8382240" cy="5791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8160" y="6415200"/>
            <a:ext cx="38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 111, 112, 113 –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3880" y="641520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Book Reference Card - hand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63120" y="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ing Marks (grades) to the Report C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3438" t="36665" r="17188" b="9180"/>
          <a:stretch/>
        </p:blipFill>
        <p:spPr>
          <a:xfrm>
            <a:off x="76320" y="1295280"/>
            <a:ext cx="8991360" cy="4876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2200" y="63388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 120 – 126 in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480" y="61405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Sheets – Posting Marks to the Report Card Gr. 3 – 5 and 6 -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86800" y="0"/>
            <a:ext cx="457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from LEA ch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 2 per 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ing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be done manually for late grades or grades below district failing ma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ep a written record of all changes and rea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Entry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checked or grades will not show on report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must wait for the message “Marks were successfully post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 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es must be posted on or before the 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 up-to-d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Practice is to enter grades at least week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entered at least every two wee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haring of pass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lock or exit the program when you are not sitting at your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90920" cy="304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304920"/>
            <a:ext cx="8610480" cy="6095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534520" y="3808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3:58:02Z</dcterms:created>
  <dc:creator>LCPS</dc:creator>
  <dc:description/>
  <dc:language>en-US</dc:language>
  <cp:lastModifiedBy>LCPS</cp:lastModifiedBy>
  <dcterms:modified xsi:type="dcterms:W3CDTF">2008-01-14T15:32:33Z</dcterms:modified>
  <cp:revision>7</cp:revision>
  <dc:subject/>
  <dc:title>Slide 1</dc:title>
</cp:coreProperties>
</file>