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B01-1F5E-41F4-AF86-7CE85009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82E-5B74-4D41-865E-507410A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F7D-8B41-498D-8DC8-235D8870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095-0CC5-4161-8B79-275A3686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922-FE50-4EF9-A451-E4A7BB5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F49-A16A-4DD8-B5B8-2AF0BE7C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16A-11BD-466B-A77D-73346757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443-4D25-4FE2-94AF-E0398B41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BC1-210E-46B1-A55B-34471B87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87B-2ACD-42B2-97A8-ED5308F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FAD-12D4-4DA3-87E4-4F3CB70E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1C6-2685-4C5E-BBCF-21702A4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4E6-9D1A-426A-9951-46A327FC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-The-Trainer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6095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slides and respond to tell what each screen 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04920"/>
            <a:ext cx="8458200" cy="62481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13040" cy="394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Your Resources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She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Teacher’s Guide (T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 Trainers for school site and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M Trainer has access to one training lo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5943600"/>
            <a:ext cx="304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56386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534520" y="57150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5760" y="27432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77120" y="762120"/>
            <a:ext cx="1833480" cy="147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2286000" cy="19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1880" y="5867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1880" y="58672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ith 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71500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1880" y="61722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6095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ng an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8753" t="32505" r="18753" b="12502"/>
          <a:stretch/>
        </p:blipFill>
        <p:spPr>
          <a:xfrm>
            <a:off x="-76320" y="914400"/>
            <a:ext cx="8839440" cy="567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88040" y="6361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04, 105, 106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ing Marks (Gra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1876" t="30592" r="15626" b="12268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8160" y="64152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11, 112, 113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3880" y="64152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Reference Card -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63120" y="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ing Marks (grades) to the Report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3438" t="36665" r="17188" b="9180"/>
          <a:stretch/>
        </p:blipFill>
        <p:spPr>
          <a:xfrm>
            <a:off x="76320" y="1295280"/>
            <a:ext cx="899136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2200" y="63388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20 – 126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480" y="61405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heets – Posting Marks to the Report Card Gr. 3 – 5 and 6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from LEA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 2 per 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one manually for late grades or grades below district failing ma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 a written record of all changes and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Entr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checked or grades will not show on report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wait for the message “Marks were successfully post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s must be posted on or before the 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up-to-d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Practice is to enter grades at least week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entered at least every two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haring of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lock or exit the program when you are not sitting at your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04920"/>
            <a:ext cx="8610480" cy="6095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380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3:58:02Z</dcterms:created>
  <dc:creator>LCPS</dc:creator>
  <dc:description/>
  <dc:language>en-US</dc:language>
  <cp:lastModifiedBy>LCPS</cp:lastModifiedBy>
  <dcterms:modified xsi:type="dcterms:W3CDTF">2008-01-14T15:32:33Z</dcterms:modified>
  <cp:revision>7</cp:revision>
  <dc:subject/>
  <dc:title>Slide 1</dc:title>
</cp:coreProperties>
</file>