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7DF-FF64-4CCE-9A8D-54452B8B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BC2-CF3E-4425-9329-2D6A2CF1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877-AA1D-4DC3-9B6D-23821F4E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DEF-584C-4AD2-BD7D-28BDBCBB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AB9-D738-4E7F-8271-A607F149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8F8-3275-4E3C-8232-15D9171B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0AC-F926-4149-9918-054C3238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7CE-D434-481A-9D03-67AF7D80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0D4-5BDE-4FCA-BBC9-2E7F60A4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5B2-01F5-4766-9093-9D4D8ABE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90F-F56B-4428-9FF3-F9563140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E58-FF9F-4608-AC3C-A6F7DB73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1591-9640-485A-9B2B-9D94D7070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er Training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8D7-2DE9-4CAC-81D0-30F8169EEB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71800" y="6208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E8F-C581-48E3-8A1A-3A5038262E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71800" y="6132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222-154B-444D-9AE4-E8C2794968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024080" y="6132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33E-5AAE-47A9-9EAC-A38E03F2D9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33889" t="31111" r="23890" b="20890"/>
          <a:stretch/>
        </p:blipFill>
        <p:spPr>
          <a:xfrm>
            <a:off x="152280" y="33480"/>
            <a:ext cx="9144000" cy="64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CE3-C91D-4D60-AC44-2F7D17995C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C27-0A7C-4C4F-95DC-85975F4F03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80720" y="2133720"/>
            <a:ext cx="4953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7D8-47A6-4D69-B2AD-E10635D7F9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38400" cy="344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266688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255-9A4F-48BE-A7F4-79635AD04A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444-898F-4B44-8C17-A413DDF36B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DD2-C911-47E0-AFE2-80BF7371E3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tting Up Grad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82520" y="62848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 Section – Page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495680" cy="36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4FD-47FB-4288-BBBB-C0E01BF3D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4572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1E5-7003-4510-B84F-EE6B36B892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56840" y="5751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993-E73F-4F6F-B29F-5F02F7E1B0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46480" y="63244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 Threshold is 76 for L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86040" y="1179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C2D-10C2-4CDE-B3A7-5644A7ED3A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5840" y="62085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D71-6CFB-4C13-935A-598B88EFD8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06:36Z</dcterms:created>
  <dc:creator>LCPS</dc:creator>
  <dc:description/>
  <dc:language>en-US</dc:language>
  <cp:lastModifiedBy>LCPS</cp:lastModifiedBy>
  <dcterms:modified xsi:type="dcterms:W3CDTF">2008-01-14T15:31:26Z</dcterms:modified>
  <cp:revision>7</cp:revision>
  <dc:subject/>
  <dc:title>Slide 1</dc:title>
</cp:coreProperties>
</file>