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0CF-51FC-4A05-9D3E-0BBB03B2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D51-AEDC-46DC-A45A-E40CC38C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5C3-28E9-45FC-B360-96E9773F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C45-3054-4B47-9B17-0DB93219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B80-6444-4A7E-A0B6-C503D5FA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B42-0046-421B-B212-35E52408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142-8A74-49B2-ABBD-55BC4893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FB6-1B70-4FB9-BDFA-25DD1356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274-58ED-4C68-8004-6A3FF396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5AF-62B7-4DF8-B0CC-08E62EAB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20F-15BF-48FD-B2C0-26418725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75C-C881-4A1A-A539-DB926D1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912E-2D1D-40CE-9B1D-875DC52C6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er Training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B04-B8B2-4799-8BDA-0F40E33E86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71800" y="6208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114-327C-4C41-84E3-AD5E409187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71800" y="6132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F63-7C08-4439-AED3-9AEBA738E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024080" y="6132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72D-CB3B-403A-AB05-A56F78F26F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33889" t="31111" r="23890" b="20890"/>
          <a:stretch/>
        </p:blipFill>
        <p:spPr>
          <a:xfrm>
            <a:off x="152280" y="33480"/>
            <a:ext cx="9144000" cy="64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A0E-484D-4B13-A70E-2C193ECA35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A40-8C76-43D9-AA55-9B8E56B0E5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80720" y="2133720"/>
            <a:ext cx="4953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D79-2156-4E06-A5DD-A9D19C93B3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38400" cy="344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266688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0DC-ED4F-4EF0-83A4-F8635FA6F3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289548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533-B24D-4EEF-8A16-D429CC660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C09-38B3-44F5-8B02-AB54703C19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tting Up Grad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82520" y="62848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 Section – Page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495680" cy="36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5E0-A892-4831-8169-B62072A629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4572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FBF-7998-4134-928D-2787D28A94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56840" y="5751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FE4-EF6C-41CD-93C3-63497691EB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46480" y="63244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 Threshold is 76 for L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86040" y="1179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D1E-8086-40E7-9DE4-823883B1F5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85760" y="-57240"/>
            <a:ext cx="9515520" cy="697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5840" y="62085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D4A-432B-4D8F-9295-481DBA072D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06:36Z</dcterms:created>
  <dc:creator>LCPS</dc:creator>
  <dc:description/>
  <dc:language>en-US</dc:language>
  <cp:lastModifiedBy>LCPS</cp:lastModifiedBy>
  <dcterms:modified xsi:type="dcterms:W3CDTF">2008-01-14T15:31:26Z</dcterms:modified>
  <cp:revision>7</cp:revision>
  <dc:subject/>
  <dc:title>Slide 1</dc:title>
</cp:coreProperties>
</file>