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746-3282-4D8B-9CAC-F5EE8099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A55-B909-4AA5-BEB6-3D6E2D71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749-0792-4E76-BA91-7F85993D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32E-60E5-46BF-A92E-B5CC2373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9E3-3A51-4942-AA2A-B47C5FE4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CF9-E625-4C62-8A50-14A22D96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4B8-33D3-4824-B033-35F35487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42E-DA58-48C4-8434-AC2C37BD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5BB-3F1D-4B96-A377-DBF6367B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8C7-215D-4352-81EE-10713FBC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2E6-F8B8-4846-8FFB-BD4A625F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8EF-7399-40B4-8B91-C9BFA33B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FD76-49D1-4B9E-AA85-C1CACBCD9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er Training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107-BD18-496F-8F70-A48D3A413F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71800" y="6208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436-0FA8-4A92-A5D3-8AE07C978B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71800" y="61326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1F3-B431-48C1-9F51-42D8D0F871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024080" y="61326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6E0-6F46-4C70-95E3-3FECB6A7B4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33889" t="31111" r="23890" b="20890"/>
          <a:stretch/>
        </p:blipFill>
        <p:spPr>
          <a:xfrm>
            <a:off x="152280" y="33480"/>
            <a:ext cx="9144000" cy="64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441-9062-4640-9801-378FF8211B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D73-EB40-47E8-9280-402ED1CE3E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80720" y="2133720"/>
            <a:ext cx="4953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7F3-F138-4C15-B81B-5C23B98266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38400" cy="344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266688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8B4-6BC6-44C9-9641-F1E0626F7D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289548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419-0059-45EF-93CE-205606F48B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11F-FEBC-4E91-9AB2-0C40032C82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tting Up Grad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82520" y="62848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 Section – Page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495680" cy="36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634-9917-476B-A993-5F9D7C3D34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4572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664-E5CD-404E-B324-B297804761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56840" y="5751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679-207A-41D9-BA11-5B38801DBF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46480" y="63244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 Threshold is 76 for L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86040" y="1179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3A3-977A-4BB6-BCD2-47AC7D08CF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85840" y="62085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8BC-0EBE-4BFA-8590-4BD6D6622D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06:36Z</dcterms:created>
  <dc:creator>LCPS</dc:creator>
  <dc:description/>
  <dc:language>en-US</dc:language>
  <cp:lastModifiedBy>LCPS</cp:lastModifiedBy>
  <dcterms:modified xsi:type="dcterms:W3CDTF">2008-01-14T15:31:26Z</dcterms:modified>
  <cp:revision>7</cp:revision>
  <dc:subject/>
  <dc:title>Slide 1</dc:title>
</cp:coreProperties>
</file>