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1C7-008E-43FE-BF0A-7D8EA2C2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C69-5799-4226-9284-85A52D33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A63-51F5-42A3-8EC0-57BA87C7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85B-1A07-4F56-8C98-DB10F16E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476-8CCA-45F4-A77D-70EACE12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E16-9D8F-4872-BAC8-440E80B3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446-32FE-42B1-919A-B906F087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8DE-5F96-44FB-8D9C-FA6DDBA2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981-CCAD-482B-B3E9-6D56E112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301-5EB4-4B27-8877-D113D547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2B2-81DF-48E4-BB6F-3F453258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1BD-A241-431F-93FC-6A20471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D18C-4244-4718-B123-D3721CE0A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er Training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6E7-D600-4DE5-8173-9CF4D0D9FF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71800" y="6208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171-EAAB-44B0-83F6-D835F88E0B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71800" y="61326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4F4-7432-436D-8FB0-33BA6047F6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024080" y="61326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13D-28AC-4BBA-B431-8F36FAB32F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33889" t="31111" r="23890" b="20890"/>
          <a:stretch/>
        </p:blipFill>
        <p:spPr>
          <a:xfrm>
            <a:off x="152280" y="33480"/>
            <a:ext cx="9144000" cy="64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07A-512E-41C1-B884-A138AF1B13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561-9AD7-4FDF-A041-C970216DE9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80720" y="2133720"/>
            <a:ext cx="4953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4CE-601F-4E44-BB6F-59CC610BF8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38400" cy="344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266688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51F-B175-491B-9252-2507B426A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289548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E5A-4221-489A-B1ED-53B36B577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9EC-98D7-49A8-A0ED-445C782535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tting Up Grad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82520" y="62848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 Section – Page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495680" cy="36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336-323F-48E8-8A24-448D8F627B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4572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3A9-4581-4E37-BD87-AC7AAAA4DB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56840" y="5751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957-6EB0-4582-B70D-B44ADE5917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46480" y="63244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 Threshold is 76 for L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86040" y="1179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DA7-7F44-40B9-A8DA-61AD42F0E2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85840" y="62085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B11-DA6E-41FC-ABAD-0C9B4A633A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06:36Z</dcterms:created>
  <dc:creator>LCPS</dc:creator>
  <dc:description/>
  <dc:language>en-US</dc:language>
  <cp:lastModifiedBy>LCPS</cp:lastModifiedBy>
  <dcterms:modified xsi:type="dcterms:W3CDTF">2008-01-14T15:31:26Z</dcterms:modified>
  <cp:revision>7</cp:revision>
  <dc:subject/>
  <dc:title>Slide 1</dc:title>
</cp:coreProperties>
</file>