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F93-CD04-412A-ABCF-3D5DC618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DE4-7DF7-4C19-AD0A-18A76C1D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FE3-0948-47F6-B5AC-5E2F86D4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40E-2C1B-4443-934F-FF8165D4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B95-8ACC-44F5-87A8-4DAF72C1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F65-D832-4146-A61B-20203509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0CE-63CC-47C6-8872-26EEAC8A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8FD-F60A-4DC2-A2CD-5216513D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A05-0C8F-48AE-B2F4-55FFBDB7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AF6-0EC6-446D-AE18-282471FB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30B-AA2C-4EAE-9251-D2B2C3C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A56-956B-4A30-9970-C753271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4753-274A-4EAF-9A68-7527FCEBF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is-trn.ncwise.org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er Training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720" y="625968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A3E-3C21-45C9-99E5-215419EEF7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6251" r="22729" b="28124"/>
          <a:stretch/>
        </p:blipFill>
        <p:spPr>
          <a:xfrm>
            <a:off x="228600" y="228600"/>
            <a:ext cx="8686800" cy="6438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152280"/>
            <a:ext cx="8839440" cy="6629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647-B4D1-4261-9448-E23B77B458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24480" y="30456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 – Grades K-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 – Grades 9 –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4320" y="6486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s 37, 38, 39, 40,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"/>
            <a:ext cx="868680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33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CC2-33B1-45F3-8BCB-204A93F119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i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as soon as bell rings (follow the school 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ark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leave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s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heck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tendance Compl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o 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out t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o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28156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’s name will show in </a:t>
            </a:r>
            <a:r>
              <a:rPr b="0" i="1" lang="en-US" sz="2400" spc="-1" strike="noStrike">
                <a:solidFill>
                  <a:srgbClr val="9900ff"/>
                </a:solidFill>
                <a:latin typeface="Arial"/>
              </a:rPr>
              <a:t>purp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show that he/she is ab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10400" y="62881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s 39, 40,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53416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1F7-2DF5-463E-9AE7-09945F94A9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eriod 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ttendance when bell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are on the correct class period (upper left part of scr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ark any tar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ark excused or unexcused (handled at front off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tendance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 out the Doo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(You Must Exit or Loc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’s name will show in 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show that he/she is ab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9240" y="65530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41 –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600"/>
            <a:ext cx="8534520" cy="617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D6D-05CF-45B6-BB2C-B0BFEC0491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riod Atten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990720"/>
            <a:ext cx="9220320" cy="5790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228600"/>
            <a:ext cx="8610480" cy="6629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B51-AFD1-4C0E-B565-38B29B6177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26D-C5C9-4334-969C-3E79BC258C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ng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(Lo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BA1-67EA-4156-A110-879C01DB1D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305920" cy="6172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3038760" cy="3449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3048120" cy="231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ACB-5DAC-48D9-A889-F3CEF8D66C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ng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1338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F07-6E1C-465F-BED5-FEF5721104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59E-0750-470D-A50A-F8D8C7184F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derstanding 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Assistan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Boar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rad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920"/>
            <a:ext cx="815328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646128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 Section Page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667-EE63-445D-8D1B-5018494948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0AD-AE37-4137-A743-671A91719E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ining Dat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sis-trn.ncwis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28600"/>
            <a:ext cx="8458200" cy="624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7621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each button as we discuss e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787-3E0C-491A-9422-FDD53275B5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nting reports&gt; HM RM Record&gt; Current Class&gt; Continue&gt; Type your headings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01120" cy="487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3400" y="64911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47 in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52280"/>
            <a:ext cx="8839440" cy="6324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8D3-5ABA-48C9-A39F-C21E8D4AF8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cking The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37492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7400" y="2286000"/>
            <a:ext cx="443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ultiple Lo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28600"/>
            <a:ext cx="838224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23480" y="6521400"/>
            <a:ext cx="41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Section – Page 8 and 38 (from day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CAD-B9ED-4A97-B950-66ECB6AEE0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7:03:46Z</dcterms:created>
  <dc:creator>LCPS</dc:creator>
  <dc:description/>
  <dc:language>en-US</dc:language>
  <cp:lastModifiedBy>LCPS</cp:lastModifiedBy>
  <dcterms:modified xsi:type="dcterms:W3CDTF">2008-01-14T15:30:41Z</dcterms:modified>
  <cp:revision>7</cp:revision>
  <dc:subject/>
  <dc:title>Slide 1</dc:title>
</cp:coreProperties>
</file>