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AC9-EC64-4A3E-B276-C28EB280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787-6258-4D70-860B-17E8B380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285-084C-48A7-B321-2D82E7C6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0A9-2E47-4E89-B608-57432390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DFA-DF84-483E-BE7D-92195195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378-C994-48FC-A798-1CD28ADE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F2B-D371-424E-8C2A-5A989A9C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28E-E92E-4F96-BA22-1170B80C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8AE-0908-448B-920D-490C562E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9FD-6BC0-479C-B06C-642BDA9F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A42-11E6-4296-8A3D-865122A3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B7B-5889-4194-9487-CE8976D1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988D-58EF-4CEC-8EAF-7D6C80F84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is-trn.ncwise.org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er Training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720" y="625968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D16-C155-470B-A808-D9221882DF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6251" r="22729" b="28124"/>
          <a:stretch/>
        </p:blipFill>
        <p:spPr>
          <a:xfrm>
            <a:off x="228600" y="228600"/>
            <a:ext cx="8686800" cy="6438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152280"/>
            <a:ext cx="8839440" cy="6629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1CA-6BB3-4DDE-8F27-FC93968EAA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24480" y="30456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 – Grades K-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 – Grades 9 –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4320" y="64864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s 37, 38, 39, 40, 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"/>
            <a:ext cx="868680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33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2BC-083A-471B-916D-9B017DD102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i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as soon as bell rings (follow the school 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ark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leave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s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heck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tendance Compl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o 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out t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o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28156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ent’s name will show in </a:t>
            </a:r>
            <a:r>
              <a:rPr b="0" i="1" lang="en-US" sz="2400" spc="-1" strike="noStrike">
                <a:solidFill>
                  <a:srgbClr val="9900ff"/>
                </a:solidFill>
                <a:latin typeface="Arial"/>
              </a:rPr>
              <a:t>purp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show that he/she is ab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10400" y="62881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s 39, 40,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53416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39D-039A-4997-BD54-8711F1D420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eriod 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ttendance when bell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are on the correct class period (upper left part of scr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ark any tar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ark excused or unexcused (handled at front off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tendance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 out the Doo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(You Must Exit or Loc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’s name will show in </a:t>
            </a: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show that he/she is ab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9240" y="65530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41 –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600"/>
            <a:ext cx="8534520" cy="6172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B96-2BB8-4DAC-9E9B-BDCB4BA653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riod Atten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990720"/>
            <a:ext cx="9220320" cy="5790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228600"/>
            <a:ext cx="8610480" cy="6629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118-324B-4246-9325-F81AB43026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863-E371-4088-BC1F-53B02B83D1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ng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(Lo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D9E-22BA-43C2-A591-6C3E7D7001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305920" cy="6172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3038760" cy="3449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3048120" cy="231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B92-7461-41EA-8B5F-8799E50D7B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ng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1338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76C-4025-48E4-8F38-B20F4614E4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C1B-031D-471D-9FAB-789ACA57BB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derstanding 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Assistan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Boar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in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rad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920"/>
            <a:ext cx="815328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646128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 Section Page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3D2-8FF6-4327-9FF8-A447D6966E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EE9-D840-40B3-99BE-68FCF09F34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ining Dat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sis-trn.ncwis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28600"/>
            <a:ext cx="8458200" cy="624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7621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each button as we discuss e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077320" cy="49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14C-C83D-4133-95C3-7B33BFC0C3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nting reports&gt; HM RM Record&gt; Current Class&gt; Continue&gt; Type your headings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01120" cy="487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3400" y="649116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47 in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52280"/>
            <a:ext cx="8839440" cy="6324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5F1-6A8E-40C2-B2C4-2D71FDDE14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cking The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37492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57400" y="2286000"/>
            <a:ext cx="443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ultiple Log-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28600"/>
            <a:ext cx="8382240" cy="601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23480" y="6521400"/>
            <a:ext cx="41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Section – Page 8 and 38 (from day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2C9-9D1F-4C67-8C8D-D735E169B6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7:03:46Z</dcterms:created>
  <dc:creator>LCPS</dc:creator>
  <dc:description/>
  <dc:language>en-US</dc:language>
  <cp:lastModifiedBy>LCPS</cp:lastModifiedBy>
  <dcterms:modified xsi:type="dcterms:W3CDTF">2008-01-14T15:30:41Z</dcterms:modified>
  <cp:revision>7</cp:revision>
  <dc:subject/>
  <dc:title>Slide 1</dc:title>
</cp:coreProperties>
</file>