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635-5785-4166-BC01-F53A2DAE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B6A-ECD9-4560-B359-7082DE35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FED-31C7-447D-8F53-F14C3F1D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9AA-5AE9-43CD-B716-A1B43621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AE2-A87B-4049-8008-E53ABA59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C3C-8F34-4237-B115-2309FD11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35C-5552-4CA0-BA32-24C8F77F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058-8EF8-4EAD-89FB-D0A30549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F7C-0B57-4171-B254-B5535171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BB8-EEFA-49A8-B2E8-50941A00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249-F625-4B3B-BA0F-F35CFB2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090-7646-4DF4-AADE-4972AEC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EA9-BF71-425B-9CC8-1FBD42166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is-trn.ncwise.or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er Training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720" y="625968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748-C137-47E7-8908-B40B9CCB38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6251" r="22729" b="28124"/>
          <a:stretch/>
        </p:blipFill>
        <p:spPr>
          <a:xfrm>
            <a:off x="228600" y="228600"/>
            <a:ext cx="8686800" cy="6438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152280"/>
            <a:ext cx="8839440" cy="6629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822-9FC5-43B8-8222-A1DDBC0985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24480" y="30456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– Grades K-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– Grades 9 –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4320" y="6486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s 37, 38, 39, 40,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"/>
            <a:ext cx="868680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33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FC4-C7EA-44A6-A2DC-D212FF9DF0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as soon as bell rings (follow the school 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ark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leave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s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heck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tendance 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o 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out t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o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28156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’s name will show in </a:t>
            </a:r>
            <a:r>
              <a:rPr b="0" i="1" lang="en-US" sz="2400" spc="-1" strike="noStrike">
                <a:solidFill>
                  <a:srgbClr val="9900ff"/>
                </a:solidFill>
                <a:latin typeface="Arial"/>
              </a:rPr>
              <a:t>pur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show that he/she is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10400" y="62881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s 39, 40,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53416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FEA-495D-4AA0-BC0B-7D5161D3CF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eriod 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ttendance when bell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are on the correct class period (upper left part of sc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ark any tar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ark excused or unexcused (handled at front off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tendance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 out the Do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(You Must Exit or Loc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’s name will show in 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show that he/she is ab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9240" y="65530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41 –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534520" cy="617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C7B-4120-4CE4-956E-0785777E52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iod Atte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990720"/>
            <a:ext cx="922032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228600"/>
            <a:ext cx="8610480" cy="6629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963-EB20-4F01-836B-C3561CA3D0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46A-86B2-40E6-A999-FC3B58694C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ng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(Lo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36D-CAA2-444A-B547-1383159F1C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305920" cy="6172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038760" cy="344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3048120" cy="231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2DB-EC43-49AA-8D02-66BD6E807E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ng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133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0A9-AB46-49A8-BF2F-7E1E1D53B4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E03-C6AE-4CDF-9E94-B59B626122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derstanding 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Assistan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Boar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rad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920"/>
            <a:ext cx="815328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646128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 Section Page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E90-4B2E-4DF1-AC44-755E8A05F3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6F1-7FE8-448F-9614-EAD585BBA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ining Dat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sis-trn.ncwis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28600"/>
            <a:ext cx="8458200" cy="624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7621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each button as we discuss e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9B6-0C56-48B4-8D7E-AFA68FCC00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nting reports&gt; HM RM Record&gt; Current Class&gt; Continue&gt; Type your heading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01120" cy="487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3400" y="64911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47 in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52280"/>
            <a:ext cx="8839440" cy="6324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D70-CA8C-4843-A56D-056EC26FF7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cking Th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37492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7400" y="2286000"/>
            <a:ext cx="443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ultiple Lo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28600"/>
            <a:ext cx="838224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23480" y="6521400"/>
            <a:ext cx="41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Section – Page 8 and 38 (from day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0AD-E8FA-4005-85CF-81A4A2C57E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7:03:46Z</dcterms:created>
  <dc:creator>LCPS</dc:creator>
  <dc:description/>
  <dc:language>en-US</dc:language>
  <cp:lastModifiedBy>LCPS</cp:lastModifiedBy>
  <dcterms:modified xsi:type="dcterms:W3CDTF">2008-01-14T15:30:41Z</dcterms:modified>
  <cp:revision>7</cp:revision>
  <dc:subject/>
  <dc:title>Slide 1</dc:title>
</cp:coreProperties>
</file>