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819-7232-427C-888C-5F184307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ABF-B83D-4BC7-95D9-81698336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D8A-CC32-4EB5-9B88-63F618B1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6A8-BB5E-459D-A114-6B5DAFCB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5E6-415C-445C-BA8B-69320FDB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C63-46A5-4D81-92F2-D24C78C4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7A1-31DC-407F-8206-D69EA2BB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423-3C3E-4EB5-98F6-CEFD289F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095-7697-42EC-B6E9-39A0CD19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215-BF79-41F6-911D-E293454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B3D-E768-461D-ADE9-BF574C1F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7B8-5454-4377-A854-E257014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7350-8535-4C21-B38A-78EFB5C61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is-trn.ncwise.or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er Training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720" y="625968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078-9AA8-4FFC-BEEB-14CCDBE7A7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6251" r="22729" b="28124"/>
          <a:stretch/>
        </p:blipFill>
        <p:spPr>
          <a:xfrm>
            <a:off x="228600" y="228600"/>
            <a:ext cx="8686800" cy="6438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152280"/>
            <a:ext cx="8839440" cy="6629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808-A264-4F32-AF53-B291213AD8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24480" y="30456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– Grades K-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– Grades 9 –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4320" y="6486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s 37, 38, 39, 40,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"/>
            <a:ext cx="868680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33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9AE-6875-400E-8772-12AECE296F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as soon as bell rings (follow the school 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ark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leave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s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heck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tendance 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o 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out t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o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28156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’s name will show in </a:t>
            </a:r>
            <a:r>
              <a:rPr b="0" i="1" lang="en-US" sz="2400" spc="-1" strike="noStrike">
                <a:solidFill>
                  <a:srgbClr val="9900ff"/>
                </a:solidFill>
                <a:latin typeface="Arial"/>
              </a:rPr>
              <a:t>pur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show that he/she is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10400" y="62881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s 39, 40,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53416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AB5-DD49-42D8-A64C-ACC066FAF8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eriod 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ttendance when bell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are on the correct class period (upper left part of sc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ark any tar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ark excused or unexcused (handled at front off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tendance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 out the Do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(You Must Exit or Loc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’s name will show in 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show that he/she is ab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9240" y="65530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41 –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534520" cy="617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6E9-4655-4345-A049-C4056CC810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iod Atte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990720"/>
            <a:ext cx="922032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228600"/>
            <a:ext cx="8610480" cy="6629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1F5-F443-4479-A6C4-70B7F6607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161-088B-48BB-9BE1-A20E6BCBD5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ng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(Lo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31F-FAF1-4D56-A622-92FE8820E3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305920" cy="6172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038760" cy="344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3048120" cy="231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1E5-D9AC-4F3F-A8F3-1DE1FCD66D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ng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133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43C-1C50-4C9B-B0AE-0A6D303720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4E1-C315-4630-A624-573E38EC39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derstanding 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Assistan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Boar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rad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920"/>
            <a:ext cx="815328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646128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 Section Page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A51-3B7B-4821-9E4E-C45E840E6F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C10-C7B9-48DE-966F-37C697E1A2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ining Dat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sis-trn.ncwis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28600"/>
            <a:ext cx="8458200" cy="624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7621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each button as we discuss e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728-33FF-4966-B9C4-804C23FA9D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nting reports&gt; HM RM Record&gt; Current Class&gt; Continue&gt; Type your heading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01120" cy="487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3400" y="64911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47 in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52280"/>
            <a:ext cx="8839440" cy="6324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A38-A605-4A76-A2AE-0B5B238EFB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cking Th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37492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7400" y="2286000"/>
            <a:ext cx="443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ultiple Lo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28600"/>
            <a:ext cx="838224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23480" y="6521400"/>
            <a:ext cx="41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Section – Page 8 and 38 (from day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C89-017C-4427-86AA-62DFA7BF6A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7:03:46Z</dcterms:created>
  <dc:creator>LCPS</dc:creator>
  <dc:description/>
  <dc:language>en-US</dc:language>
  <cp:lastModifiedBy>LCPS</cp:lastModifiedBy>
  <dcterms:modified xsi:type="dcterms:W3CDTF">2008-01-14T15:30:41Z</dcterms:modified>
  <cp:revision>7</cp:revision>
  <dc:subject/>
  <dc:title>Slide 1</dc:title>
</cp:coreProperties>
</file>