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FEA-794D-45B7-BAA9-962ABB01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6F0-B702-49E0-A79B-FB38E65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38A-F132-4776-A885-6A63E1F6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251-F685-4892-9943-B1191440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2C-939D-46E8-A668-4BDE298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B52-93C5-494A-9E14-7DCFF676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394-CB87-4DD9-88FF-EFB6A4FC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61A-32F7-46CE-9B6A-CE540DD4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53B-77FC-4ED3-9F31-FD617F9D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CF4-A9E9-4C94-A5C9-8CCB7ED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A25-A57B-4036-9847-907F4C8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66D-4378-401C-A206-25260B1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AAB4-8AA1-484E-940E-64A07FF3E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C Wise TAM Training for Teac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498168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0712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4100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 – (training only) (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does not come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yellowish bar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ctive X Contr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rompt comes up – Click on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-Initiator will come up and will in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log in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28600"/>
            <a:ext cx="845820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7120" y="649116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for Internet Explor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1956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8006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(1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n’t Shoot the Messenger!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dates ar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3- A …(Year 3 in 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614240" cy="184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87000" y="5791320"/>
            <a:ext cx="66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t’s all stay positive and work to support each 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8458200" cy="6095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1532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al notes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achers will not have a training site to log on to during this training. This training will deliver will be demonstration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re are many questions that still need to be answered. Be pati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member that change is sometimes difficult, but it is a necessary component of grow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cipant’s Responsibility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8-hou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gain a general overview of NC 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aware of our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458200" cy="5791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ining Schedul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 teachers – 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3 – 12 – 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Attendance, Grade Book, and 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sig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in sheets must be turned in no later than Feb.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1655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29145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NC WISE?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472428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r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Win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formatio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076960" cy="6019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1200" y="647712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Section Pag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3590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29400" y="2590920"/>
            <a:ext cx="9460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 Station Requirements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puters have been prepared at all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should be in place in all homeroom classroo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ndows 2000 and Windows XP are suffic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Initiator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ug and Play software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urity(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62840" y="228600"/>
            <a:ext cx="237456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20240" y="6521400"/>
            <a:ext cx="29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 (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9:47Z</dcterms:created>
  <dc:creator>LCPS</dc:creator>
  <dc:description/>
  <dc:language>en-US</dc:language>
  <cp:lastModifiedBy>LCPS</cp:lastModifiedBy>
  <dcterms:modified xsi:type="dcterms:W3CDTF">2008-01-14T15:28:50Z</dcterms:modified>
  <cp:revision>14</cp:revision>
  <dc:subject/>
  <dc:title>Slide 1</dc:title>
</cp:coreProperties>
</file>