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733-2DC5-41B9-8163-621C0054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D82-506B-4BAE-A716-BC0F5FF6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AE6-56C5-4E1F-A1B0-C8FBAE4E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4B5-9469-47C2-9D0C-07A72E86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3A1-547E-4C13-A640-92AA64EE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7E1-479E-4BE3-AC46-25954C3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81D-52CF-4EB4-8496-82CC0A8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E33-F45C-4477-9B2C-1011986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C89-C865-455E-AB25-DE4BDB38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66C-289C-48FC-A280-1EA5F2A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299-5A82-4D77-A3D3-8765CE5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4EB-8251-485D-9867-8574BB6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C76C-EE51-4CBD-8622-5482FFA7B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C Wise TAM Training for Teac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498168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0712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4100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 – (training only)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 not come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ellowish bar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ctive X Contr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rompt comes up – Click on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-Initiator will come up and will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og in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845820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7120" y="6491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Internet Explo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8006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(1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n’t Shoot the Messenger!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dates ar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3- A …(Year 3 in 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614240" cy="184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87000" y="5791320"/>
            <a:ext cx="66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t’s all stay positive and work to support each 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8458200" cy="6095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1532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al note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achers will not have a training site to log on to during this training. This training will deliver will be demonstration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re are many questions that still need to be answered. Be pati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member that change is sometimes difficult, but it is a necessary component of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cipant’s Responsibility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8-hou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gain a general overview of NC 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aware of our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458200" cy="5791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ining Schedul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 teachers – 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3 – 12 – 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Attendance, Grade Book, and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sig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in sheets must be turned in no later than Feb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165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9145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NC WISE?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7242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in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formatio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076960" cy="6019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1200" y="64771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Section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946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 Station Requirements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puters have been prepared at all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should be in place in all homeroom classroo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dows 2000 and Windows XP are suffic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Initiator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ug and Play software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urity(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62840" y="228600"/>
            <a:ext cx="23745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20240" y="652140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 (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9:47Z</dcterms:created>
  <dc:creator>LCPS</dc:creator>
  <dc:description/>
  <dc:language>en-US</dc:language>
  <cp:lastModifiedBy>LCPS</cp:lastModifiedBy>
  <dcterms:modified xsi:type="dcterms:W3CDTF">2008-01-14T15:28:50Z</dcterms:modified>
  <cp:revision>14</cp:revision>
  <dc:subject/>
  <dc:title>Slide 1</dc:title>
</cp:coreProperties>
</file>