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64C-2B12-4EC4-95F0-271D45F2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C45-688A-4720-B859-E6C2742D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DD15-ABFC-4024-AF3A-C7B4F321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A25-1EE5-420F-82E7-BC8C0032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A50C-601D-4D0F-8687-E8018D61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0F71-2DC5-41EC-9458-C78A5CC6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F1F-A8DA-4EB4-8B3D-70B96A14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5FC-6677-493A-B710-C69CA6FE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ABC-1802-42E5-9B61-07E5A499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F72E-A8A3-4E0D-BCC9-C906A005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7C4-3CE9-4D67-A1F3-1F9D6167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87F-81D1-4295-8AE5-14468CE2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5B78-73E1-42F0-8B9C-897524BC1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sis-trn.ncwise.org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noir County Public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C Wise TAM Training for Teach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y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3962520"/>
            <a:ext cx="4981680" cy="1114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07120" y="586728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9040" y="541008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ogging In – (training only) (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sis-trn.ncwis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does not come u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yellowish bar at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Active X Contro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rompt comes up – Click on Ins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-Initiator will come up and will ins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log in box will ap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28600"/>
            <a:ext cx="8458200" cy="6172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17120" y="649116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 for Internet Explor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gging In(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019560" cy="4495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228600"/>
            <a:ext cx="8534160" cy="6324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480060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T_#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wise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12t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minders(1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on the SE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8534160" cy="586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osing and Summary(1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057400" y="159984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day we address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 Wis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in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04920"/>
            <a:ext cx="845820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09680" y="4343400"/>
            <a:ext cx="49816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on’t Shoot the Messenger!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5943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 WI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ion dates ar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 3- A …(Year 3 in N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05720" y="1905120"/>
            <a:ext cx="1614240" cy="1846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87000" y="5791320"/>
            <a:ext cx="66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t’s all stay positive and work to support each ot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04920"/>
            <a:ext cx="8458200" cy="6095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81532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pecial notes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achers will not have a training site to log on to during this training. This training will deliver will be demonstration on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re are many questions that still need to be answered. Be pati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member that change is sometimes difficult, but it is a necessary component of grow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rticipant’s Responsibility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 in 8-hour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gain a general overview of NC 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 aware of our Groun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 the 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80880"/>
            <a:ext cx="8458200" cy="5791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aining Schedul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-2 teachers – 4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nd 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s 3 – 12 – 8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, Attendance, Grade Book, and Spread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s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sig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in sheets must be turned in no later than Feb.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934320" y="914400"/>
            <a:ext cx="1655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nda / Outcomes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 you will gain knowledge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 Wis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in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0492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291456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is NC WISE?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47242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orth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Window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Information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04920"/>
            <a:ext cx="8076960" cy="6019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1200" y="647712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Section Pag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135900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629400" y="2590920"/>
            <a:ext cx="9460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k Station Requirements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omputers have been prepared at all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should be in place in all homeroom classroo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ndows 2000 and Windows XP are suffici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-Initiator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lug and Play software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04920"/>
            <a:ext cx="845820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581280" y="914400"/>
            <a:ext cx="17766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curity(8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62840" y="228600"/>
            <a:ext cx="237456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057400" y="2286000"/>
            <a:ext cx="443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Multiple Log-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228600"/>
            <a:ext cx="8382240" cy="6019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20240" y="6521400"/>
            <a:ext cx="29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Section – Page 8 and 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gging In (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4800600"/>
            <a:ext cx="243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T_##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wise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12t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19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5:29:47Z</dcterms:created>
  <dc:creator>LCPS</dc:creator>
  <dc:description/>
  <dc:language>en-US</dc:language>
  <cp:lastModifiedBy>LCPS</cp:lastModifiedBy>
  <dcterms:modified xsi:type="dcterms:W3CDTF">2008-01-14T15:28:50Z</dcterms:modified>
  <cp:revision>14</cp:revision>
  <dc:subject/>
  <dc:title>Slide 1</dc:title>
</cp:coreProperties>
</file>